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5A7-933D-4BFE-855F-53C61843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29C-965A-415B-A9DD-F717F0FB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B8F-B8D8-40A7-A23B-3E06CD8A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C62-95B7-4F9C-BD3F-E3265FBB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6815-D85A-49F1-99CB-744DECD0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B9CE-5E97-4AD7-AC01-0B531F1E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E886-FEE9-4779-A792-DD713324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5075-072D-4AAD-8380-2AAF282A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6DD6-5042-4313-AF1C-55643E4E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6E10-ADFE-4DD9-A0D6-C9437601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52C2-779D-4F5E-9465-028AD34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B65-092A-439F-9085-C0BFDB72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5D64-B4DD-40DD-AB31-444B0E7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8363-3F49-4D52-A048-BE97C15A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3D64-DB96-454D-8430-16FF8599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74E4-14AB-484B-9BE9-B986B374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837F-FCF1-422C-B242-41486EE9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13D-C865-4514-9380-B9A9AAEF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7FB-8E76-4B47-BD98-09E0B51C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D75-756A-4FC6-AD36-E1087AC9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820-602F-45F4-8452-A53AD345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C11-4A26-488F-AFDB-BF5EFED1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78A-D358-4D9B-A5C7-5D8AC4D5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B9D-985E-4762-9200-02C1434E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1C10-536D-4347-B39F-15765F900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CCB7-2C44-4A1C-9D3E-169624E99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Soil Form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pograph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ope of the 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re slope = more run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re runoff = depletion of nutr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iving Organism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sms that live in soil (i.e., plants, insects, and microbes) actively affect soil forma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organisms = more aeration and drain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sms can break down 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318"/>
          <p:cNvPicPr/>
          <p:nvPr/>
        </p:nvPicPr>
        <p:blipFill>
          <a:blip r:embed="rId1"/>
          <a:stretch/>
        </p:blipFill>
        <p:spPr>
          <a:xfrm>
            <a:off x="5257800" y="1676520"/>
            <a:ext cx="3754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ving Organis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c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ft over, decomposed matter from once living org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ives soil its dark black co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deal, good soil has about 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3" descr="finished-compost.jpg"/>
          <p:cNvPicPr/>
          <p:nvPr/>
        </p:nvPicPr>
        <p:blipFill>
          <a:blip r:embed="rId1"/>
          <a:stretch/>
        </p:blipFill>
        <p:spPr>
          <a:xfrm>
            <a:off x="4495680" y="3782880"/>
            <a:ext cx="4496040" cy="299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organic matter.jpg"/>
          <p:cNvPicPr/>
          <p:nvPr/>
        </p:nvPicPr>
        <p:blipFill>
          <a:blip r:embed="rId2"/>
          <a:stretch/>
        </p:blipFill>
        <p:spPr>
          <a:xfrm>
            <a:off x="914400" y="3886200"/>
            <a:ext cx="2857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ime and Weather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wo types of weathe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hysical weather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caused by the effects of climatic factors (e.g., temperature, water, and wind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hemical weather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the chemical makeup of rock and breaks it dow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time = more weath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mat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es into each previous a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es temperature and mois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s enhanced by the organisms and  topography of the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ve different factors that affect soil form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26" descr="22"/>
          <p:cNvPicPr/>
          <p:nvPr/>
        </p:nvPicPr>
        <p:blipFill>
          <a:blip r:embed="rId1"/>
          <a:stretch/>
        </p:blipFill>
        <p:spPr>
          <a:xfrm>
            <a:off x="5486400" y="2619360"/>
            <a:ext cx="2857680" cy="3629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7"/>
          <p:cNvSpPr/>
          <p:nvPr/>
        </p:nvSpPr>
        <p:spPr>
          <a:xfrm>
            <a:off x="457200" y="3809880"/>
            <a:ext cx="44956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Topography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lop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i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-133200" y="1600200"/>
            <a:ext cx="685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 material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rock material from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the soil is forme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are five different factors that affect soil formation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Living organis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Time or weath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341"/>
          <p:cNvPicPr/>
          <p:nvPr/>
        </p:nvPicPr>
        <p:blipFill>
          <a:blip r:embed="rId1"/>
          <a:stretch/>
        </p:blipFill>
        <p:spPr>
          <a:xfrm>
            <a:off x="3276720" y="4019400"/>
            <a:ext cx="4653000" cy="2686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762120" y="2743200"/>
            <a:ext cx="80010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Climate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the temperature and moisture characteristics of the are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soils in Illinois have been formed from material originally moved by glaci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7" descr="317"/>
          <p:cNvPicPr/>
          <p:nvPr/>
        </p:nvPicPr>
        <p:blipFill>
          <a:blip r:embed="rId1"/>
          <a:stretch/>
        </p:blipFill>
        <p:spPr>
          <a:xfrm>
            <a:off x="2362320" y="3352680"/>
            <a:ext cx="45972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771560" y="-28440"/>
            <a:ext cx="5600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bout 64% of the soil in Illinois comes from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ccurred from the blowing of the soil after the glaciers melted and dri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 desirable single soil parent mate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w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bout 16% of the soil in Illinois comes from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ccurred when the glaciers mel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342"/>
          <p:cNvPicPr/>
          <p:nvPr/>
        </p:nvPicPr>
        <p:blipFill>
          <a:blip r:embed="rId1"/>
          <a:stretch/>
        </p:blipFill>
        <p:spPr>
          <a:xfrm>
            <a:off x="1905120" y="2819520"/>
            <a:ext cx="5562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acial ti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bout 11% of the soil in Illino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bbles and various sizes of bou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343"/>
          <p:cNvPicPr/>
          <p:nvPr/>
        </p:nvPicPr>
        <p:blipFill>
          <a:blip r:embed="rId1"/>
          <a:stretch/>
        </p:blipFill>
        <p:spPr>
          <a:xfrm>
            <a:off x="2133720" y="2846520"/>
            <a:ext cx="52578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uv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diments deposited by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344"/>
          <p:cNvPicPr/>
          <p:nvPr/>
        </p:nvPicPr>
        <p:blipFill>
          <a:blip r:embed="rId1"/>
          <a:stretch/>
        </p:blipFill>
        <p:spPr>
          <a:xfrm>
            <a:off x="6324480" y="121932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04920" y="2743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edrock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hale, sandstone, or limestone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uried by loess, glacial till, outwash, or alluvium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345"/>
          <p:cNvPicPr/>
          <p:nvPr/>
        </p:nvPicPr>
        <p:blipFill>
          <a:blip r:embed="rId2"/>
          <a:stretch/>
        </p:blipFill>
        <p:spPr>
          <a:xfrm>
            <a:off x="3657600" y="4267080"/>
            <a:ext cx="34448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2:21:08Z</dcterms:created>
  <dc:creator>Lindi Kocher</dc:creator>
  <dc:description/>
  <cp:keywords/>
  <dc:language>en-US</dc:language>
  <cp:lastModifiedBy>Alicia Burge</cp:lastModifiedBy>
  <dcterms:modified xsi:type="dcterms:W3CDTF">2012-02-08T03:16:28Z</dcterms:modified>
  <cp:revision>120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